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gif" ContentType="image/gif"/>
  <Override PartName="/ppt/media/image9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C9AF-94AE-4B5D-9970-AF2A56C0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368DC-D453-491E-AC05-7048AFDB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5E6B-9860-47B2-80DF-69185AB7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71D62-C7CD-4C1B-9908-0441A761D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0F3B-250B-486F-A5D8-66D9A0E1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ED1D-A22D-4D01-B6C0-9E680A8C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028D-03FE-445E-AE27-2F2E6A1B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0E04-F2A5-4001-A516-FD39A227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2B18-1065-48F6-A396-37C38C00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043D-51D8-4838-BC86-63D685B8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04EE-949A-4573-BEF8-0606E51C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28F03-402C-40EE-9639-13A29E29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E3DC-5EA5-40F1-91F6-142FEC88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DD65-9C26-47C3-A5A1-CF96D67B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3615-F6E2-45AE-9B40-8CA8950E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7080-9C80-4DDA-A274-97F77907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2596-DE11-42FA-A22E-28B94FBD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C4D7-3255-4AC3-A76A-C936B87A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97E86-CBDE-4BCD-AA03-9C0DFDC9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5A9C-D9AF-40E9-8FA4-E35BD609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4C912-E2F2-45CC-9B0A-DCF3C076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04E0-5DBF-4082-94BA-4FD7712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DB20-7EF8-4711-B3F8-2C4BDE9B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DF0F-038D-4795-A8B2-DE95E354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44C2-0BCE-4E6A-A954-74F7F9ACD99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9AA1-79A1-43AE-ACC4-E6CCACF817D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utin.cz/z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360" y="2133360"/>
            <a:ext cx="7200720" cy="20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ffff00"/>
                </a:solidFill>
                <a:latin typeface="Times New Roman"/>
              </a:rPr>
              <a:t>INTERNET A WORL WIDE WEB JAKO SOUČÁST INFORMAČNÍHO SYSTÉMU ZÁKLADNÍ ŠKOL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360" y="5444640"/>
            <a:ext cx="42480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7d"/>
                </a:solidFill>
                <a:latin typeface="Arial"/>
              </a:rPr>
              <a:t>Petr Vitásek, 2004</a:t>
            </a:r>
            <a:r>
              <a:rPr b="0" i="1" lang="cs-CZ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38120" cy="457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2925720" cy="203040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116000" y="54936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iplomová prá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3516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ávě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ylo provedeno výzkumné še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ice a popis nových teoretických přístup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is základních aplikací pro tvorbu ww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mezení a popis struktury webových stránek, které mohou být účelnou předloh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dílčích záv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likace reálných webových stránek ZŠ Lutín na webové adrese: </a:t>
            </a:r>
            <a:r>
              <a:rPr b="0" lang="cs-CZ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lutin.cz/zs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četně přílohy Diplomové práce na CD-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19700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- všechny stanovené cíle byly splněn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bsa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vod do problemati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cíle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eoretické vstupy pro řeš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Internet, Web, vývoj HTML a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Škola a Intern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současný Informační systém ZŠ, průzkum, portály na podporu edukačního proce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žnosti vytváření webových strán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FrontPage, Flash 5 a publikace na we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tváření webových stránek ZŠ Lu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843120" cy="795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Cíle prá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arakterizovat stav využívání Informačního systému ZŠ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–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yzovat účast žáků a učitelů ZŠ na spolupráci při vytváření a aktualizaci webových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finovat postupy při vytváření webových stránek pro potřeby ZŠ a zařazení do výuky, nebo kroužku Informa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pracovat nová řešení při tvorbě www Z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ntetizovat dílčí závěry, ke kterým jsme doš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ovat výsledek webových stránek ZŠ Lutín na přiloženém CD-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67680" y="476280"/>
            <a:ext cx="571680" cy="9367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3640" y="457200"/>
            <a:ext cx="70563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průzkum byl proveden v únoru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odpovědělo 31 ZŠ ze 120-ti respond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elektronický dotazník s pěti otázk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1) Má Vaše ZŠ www stránk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24000" y="3573360"/>
          <a:ext cx="539928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573360"/>
                    <a:ext cx="539928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0360" y="4149720"/>
            <a:ext cx="1368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elkem 27 Z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2) Kdo Vám vytvořil webové stránk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32000" y="2708280"/>
          <a:ext cx="6624720" cy="31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708280"/>
                    <a:ext cx="662472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3) Kdo provádí aktualizaci webových strán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2708280"/>
          <a:ext cx="6624720" cy="310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2708280"/>
                    <a:ext cx="66247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4) Jak často provádíte aktualizaci webových strán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332000" y="2708280"/>
          <a:ext cx="6624720" cy="327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2708280"/>
                    <a:ext cx="6624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067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Využití webových stránek na ZŠ - průz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812000" y="692280"/>
            <a:ext cx="736560" cy="633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1700280"/>
            <a:ext cx="81471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5) Probíhá na Vaší ZŠ zájmový kroužek informatik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7d"/>
                </a:solidFill>
                <a:latin typeface="Arial"/>
              </a:rPr>
              <a:t>          </a:t>
            </a:r>
            <a:r>
              <a:rPr b="0" i="1" lang="cs-CZ" sz="2000" spc="-1" strike="noStrike">
                <a:solidFill>
                  <a:srgbClr val="00007d"/>
                </a:solidFill>
                <a:latin typeface="Arial"/>
              </a:rPr>
              <a:t>- uveďte náplň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2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51280" y="2205000"/>
          <a:ext cx="462924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2205000"/>
                    <a:ext cx="46292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7236000" y="2781360"/>
            <a:ext cx="1028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Celkem 27 Z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708280"/>
            <a:ext cx="3384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nejčastější odpově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ce s Intern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ord, Excel, FrontPage a rozšiřování znalostí o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y, výukové programy a jiná multimé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rba www strá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áce na školním časop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40360" y="4941720"/>
            <a:ext cx="2490840" cy="135756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žadavky při navrhování www ZŠ Lu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tvořit na první pohled poutavé a „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živé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“ str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čelné, informační stránky se základními a důležitými informacemi o škole a ob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ednoduchost a kompatibilita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timální množství grafických pr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řazení informací do vhodných katego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možnit návštěvníkům vyjádřit svůj náz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ublikovat stránky na nezávislý server nebo dle možností šk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48360" y="5589720"/>
            <a:ext cx="1295280" cy="97128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172360" y="4508640"/>
            <a:ext cx="679680" cy="720720"/>
          </a:xfrm>
          <a:prstGeom prst="rect">
            <a:avLst/>
          </a:prstGeom>
          <a:ln w="9360">
            <a:solidFill>
              <a:srgbClr val="00007d"/>
            </a:solidFill>
            <a:miter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9:24:11Z</dcterms:created>
  <dc:creator>Garfield</dc:creator>
  <dc:description/>
  <dc:language>en-US</dc:language>
  <cp:lastModifiedBy>Garfield</cp:lastModifiedBy>
  <dcterms:modified xsi:type="dcterms:W3CDTF">2004-05-27T13:12:57Z</dcterms:modified>
  <cp:revision>10</cp:revision>
  <dc:subject/>
  <dc:title>INTERNET A WORL WIDE WEB JAKO SOUČÁST INFORMAČNÍHO SYSTÉMU ZÁKLADNÍ ŠKO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