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5D58-0BD0-4215-8AC5-B5D62851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A506-AE8E-45F2-B600-467C82B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658A-D373-442A-9F5E-0300BCD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ABF9-3A68-4F0F-A875-7B6A6639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E0CB-4520-47B6-8E05-E2C98411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898F-DDAC-4B4F-9273-D7067F7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E081-1E51-4FDE-B652-584AE79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1BC7-EEA8-4797-B95C-B8E175C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3639-825E-4859-80EC-1FD697F1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337-2EAF-496B-B541-FE64C5A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69CF-B960-4272-AC43-893DB6F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3E09-8D76-4081-B351-3860117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300D-3EFC-4150-91BB-C988310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B8F8-902E-4A9F-A82A-2E652DC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A66A-338F-4C5B-910B-55582D17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2D3-0F42-4082-A50F-68BC3A52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CC3-EBED-4090-A94C-5FF6789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FFAD-B70A-4C87-AFC0-5B3D8587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092B-BB18-49BA-846F-07750E7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427F-2EEA-4BC8-AB89-6FA52AE9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5662-5FAA-45DA-ACE4-181502DD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FCE8-BE70-4CFC-AE51-31729FD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C13B-0C5B-49E3-80F4-27EBB17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2093-D163-4656-912E-E80C7AF5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991F-8622-48CE-B76E-BAD67E87014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9BF0-9659-40C1-9396-A0F8759E001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utin.cz/z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2133360"/>
            <a:ext cx="720072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ffff00"/>
                </a:solidFill>
                <a:latin typeface="Times New Roman"/>
              </a:rPr>
              <a:t>INTERNET A WORL WIDE WEB JAKO SOUČÁST INFORMAČNÍHO SYSTÉMU ZÁKLADNÍ ŠKOL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424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7d"/>
                </a:solidFill>
                <a:latin typeface="Arial"/>
              </a:rPr>
              <a:t>Petr Vitásek, 2004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38120" cy="45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2925720" cy="20304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116000" y="54936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plo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35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ylo provedeno výzkumné še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a popis nových teoretických pří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 základních aplikací pro tvorbu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mezení a popis struktury webových stránek, které mohou být účelnou předloh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dílčích záv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likace reálných webových stránek ZŠ Lutín na webové adrese: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lutin.cz/z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četně přílohy Diplomové práce na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- všechny stanovené cíle byly splně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vod do problemati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cíl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retické vstupy pro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Internet, Web, vývoj HTML a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kola a Intern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současný Informační systém ZŠ, průzkum, portály na podporu edukačního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žnosti vytváření webových strán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FrontPage, Flash 5 a publikace na we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tváření webových stránek ZŠ Lu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843120" cy="79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Cíle prá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zovat stav využívání Informačního systému ZŠ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yzovat účast žáků a učitelů ZŠ na spolupráci při vytváření a aktualizaci webových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ovat postupy při vytváření webových stránek pro potřeby ZŠ a zařazení do výuky, nebo kroužku Infor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racovat nová řešení při tvorbě www Z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ntetizovat dílčí závěry, ke kterým jsme doš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t výsledek webových stránek ZŠ Lutín na přiloženém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7680" y="476280"/>
            <a:ext cx="571680" cy="9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056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průzkum byl proveden v únoru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odpovědělo 31 ZŠ ze 120-ti respond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elektronický dotazník s pěti otázk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1) Má Vaše ZŠ www stránk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4000" y="3573360"/>
          <a:ext cx="539928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573360"/>
                    <a:ext cx="539928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0360" y="4149720"/>
            <a:ext cx="136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lkem 27 Z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2) Kdo Vám vytvořil webové strán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32000" y="2708280"/>
          <a:ext cx="6624720" cy="31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708280"/>
                    <a:ext cx="6624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3) Kdo provádí aktualizaci webových strán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2708280"/>
          <a:ext cx="6624720" cy="31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708280"/>
                    <a:ext cx="66247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4) Jak často provádíte aktualizaci webových strán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32000" y="2708280"/>
          <a:ext cx="662472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708280"/>
                    <a:ext cx="6624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5) Probíhá na Vaší ZŠ zájmový kroužek informati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- uveďte náplň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51280" y="2205000"/>
          <a:ext cx="46292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205000"/>
                    <a:ext cx="4629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236000" y="2781360"/>
            <a:ext cx="1028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Celkem 27 Z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708280"/>
            <a:ext cx="3384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jčastější odpově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s Intern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ord, Excel, FrontPage a rozšiřování znalostí o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y, výukové programy a jiná multimé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rba www strá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na školním časop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0360" y="4941720"/>
            <a:ext cx="2490840" cy="1357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žadavky při navrhování www ZŠ Lu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tvořit na první pohled poutavé a „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živé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“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elné, informační stránky se základními a důležitými informacemi o škole a ob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duchost a kompatibilita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timální množství grafick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řazení informací do vhodných katego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možnit návštěvníkům vyjádřit svůj ná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ublikovat stránky na nezávislý server nebo dle možností š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5589720"/>
            <a:ext cx="1295280" cy="9712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172360" y="4508640"/>
            <a:ext cx="679680" cy="720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9:24:11Z</dcterms:created>
  <dc:creator>Garfield</dc:creator>
  <dc:description/>
  <dc:language>en-US</dc:language>
  <cp:lastModifiedBy>Garfield</cp:lastModifiedBy>
  <dcterms:modified xsi:type="dcterms:W3CDTF">2004-05-27T13:12:57Z</dcterms:modified>
  <cp:revision>10</cp:revision>
  <dc:subject/>
  <dc:title>INTERNET A WORL WIDE WEB JAKO SOUČÁST INFORMAČNÍHO SYSTÉMU ZÁKLADNÍ ŠKO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